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3247-20F6-4A09-A71E-297D91B20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CA31-9AA8-427F-98D5-008ED8F4D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E8A0-3E30-4AA5-9FF6-767F58011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BA8E-8BB4-4E5D-9CD5-C686EFB4C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4DB4-99B2-4587-90B0-91A0819A6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1BE5-23B2-40B8-AFC4-CC6CEA02A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8943-9A80-4B53-85C5-33D4CEC4E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B1B0-1BF4-493F-8156-BE8A3DBA3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D7D9-0938-4BDB-9C04-95DB89902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0CB7-1644-45B8-B4F8-A94F1D030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2573-EC00-4AF0-B383-F8FC8B9F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9738-5BFD-483F-9C3B-89FFC744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ED9CE-7340-435F-A01F-AB4907CF05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teorology Pre-T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ease type your answers onto a document in Microsoft Word, then post them to the wik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Times New Roman"/>
              </a:rPr>
              <a:t>Question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403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t the following layers of the atmosphere in order from lowest to highest altitu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hermosphere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tratosphere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roposphere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esosphere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Times New Roman"/>
              </a:rPr>
              <a:t>Question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6668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of the following makes up more than 1% of the atmosphe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Hydro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Times New Roman"/>
              </a:rPr>
              <a:t>B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xy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. Hel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. Arg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Times New Roman"/>
              </a:rPr>
              <a:t>Question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5410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of the following is a type of Continental Polar (cP) air mas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A warm air mass from the Baha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An air mass from  central Mex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en-US" sz="2400" spc="-1" strike="noStrike">
                <a:solidFill>
                  <a:srgbClr val="00b05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ld air mass from the North Pa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2d050"/>
                </a:solidFill>
                <a:latin typeface="Times New Roman"/>
              </a:rPr>
              <a:t>D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ir mass from central Ca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Times New Roman"/>
              </a:rPr>
              <a:t>Question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front is slow-moving and causes lots of precipitation over an extended perio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Times New Roman"/>
              </a:rPr>
              <a:t>A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warm fro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A cold fro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 A temperate fro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 An occluded fro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Question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picture represents a cumulus clou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533520" y="4915080"/>
            <a:ext cx="2590560" cy="1942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2"/>
          <a:stretch/>
        </p:blipFill>
        <p:spPr>
          <a:xfrm>
            <a:off x="5638680" y="2514600"/>
            <a:ext cx="3302280" cy="2203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3"/>
          <a:stretch/>
        </p:blipFill>
        <p:spPr>
          <a:xfrm>
            <a:off x="533520" y="2743200"/>
            <a:ext cx="2867040" cy="2151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"/>
          <p:cNvPicPr/>
          <p:nvPr/>
        </p:nvPicPr>
        <p:blipFill>
          <a:blip r:embed="rId4"/>
          <a:stretch/>
        </p:blipFill>
        <p:spPr>
          <a:xfrm>
            <a:off x="5629320" y="4730760"/>
            <a:ext cx="2448000" cy="21272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8"/>
          <p:cNvSpPr/>
          <p:nvPr/>
        </p:nvSpPr>
        <p:spPr>
          <a:xfrm>
            <a:off x="0" y="3505320"/>
            <a:ext cx="4572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5105520" y="3200400"/>
            <a:ext cx="5331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Question 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oes a hygrometer measu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2d05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Times New Roman"/>
              </a:rPr>
              <a:t>Humid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Question 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a sundo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2d05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Times New Roman"/>
              </a:rPr>
              <a:t>An optical illusion which causes two specks of light to appear on either side of the s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Times New Roman"/>
              </a:rPr>
              <a:t>Question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4674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oes the Coriolis effect 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2d05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Times New Roman"/>
              </a:rPr>
              <a:t>The Coriolis effect is a force which changes direction of winds and objects due to the earth’s ro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Box 4"/>
          <p:cNvSpPr/>
          <p:nvPr/>
        </p:nvSpPr>
        <p:spPr>
          <a:xfrm>
            <a:off x="1828800" y="4952880"/>
            <a:ext cx="4343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20:32:36Z</dcterms:created>
  <dc:creator>BPS</dc:creator>
  <dc:description/>
  <dc:language>en-US</dc:language>
  <cp:lastModifiedBy>install</cp:lastModifiedBy>
  <dcterms:modified xsi:type="dcterms:W3CDTF">2010-01-06T20:19:52Z</dcterms:modified>
  <cp:revision>14</cp:revision>
  <dc:subject/>
  <dc:title>Part I</dc:title>
</cp:coreProperties>
</file>